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AB46-4DF2-4B10-805F-18FEE12A3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68B2-0300-4ECA-ADB6-D76D110CC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271F-04AC-4822-8E24-BF5F3F738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6597-193C-44AA-BEB3-523C29DCE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E383-1B50-47B0-97CD-DB80048EF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72EDA-C380-439F-A769-CA973D45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AFF04-608C-4895-AF03-F25A3F3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3127A-2145-4049-9720-AC025217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88902-E066-4111-AAF2-CE2BE10C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7E0BE-52D4-4D28-92A7-173BED2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941D-CE33-4D28-803D-24B6B93E58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6062C-9164-4F44-8B94-97C461E1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30E63-06C2-4A4C-A800-BC39D38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9A03-0867-4883-9075-77ABFA4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47AD0-7AE2-4F26-9924-F837B87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F3531-9203-42B1-A3C1-9EFAB14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329EB-152C-4AFA-84E1-68B0EF07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A7599-F24E-4F11-8FEA-CD11550B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D2A8D-30BC-4E62-A937-39FD897C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4396F-CC1B-4150-B3D4-AA48B987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DB22D-ADBC-4988-987A-E5CEEE0C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E460-DA7C-4947-978F-FAD403C673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19E76-D2B3-4438-BDCE-959BE051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9E6C5-56DD-4C46-A0A3-83AAA16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CAC76-B175-406E-823B-DA0A1FA9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21144-669C-4DFC-A65D-A3D0BED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15F9B-DBD0-4CE5-A4D6-9B4B116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AC6C9-4403-42BF-8C8A-F79EA1A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03CA2-6FFE-401B-9B7E-45B8844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03610-5639-4CFB-8E58-3A2BAB98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4DB18-908E-4F9D-896C-B1BD070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D9FC9-A92D-41BA-AADB-A43EA233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8356-99C5-4316-A512-E8D9BCBBC0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FC589-0CF1-49C9-BF95-FFB9D7F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E977F-011E-4228-BEAE-DCD2E77C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51822-C398-462F-8BF2-0BFCF9B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0E889-E773-4E9B-90E8-06EC085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938DE-0E89-4D67-BE97-895B1DB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9AE83-B0D8-46EE-806C-84DC141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1A47A-BA09-4D03-969B-EBC3208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700C7-3D5B-4EC7-AAAA-42D3373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CCE94-6F22-4A17-8C64-D45680E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67A01-65F4-4A57-9CBF-1AC80EA4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46E8-A07B-4D41-9FCE-72545C0707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DDF52-D10F-45C6-81F2-20315CD4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8481-F4EA-4F95-B78B-FC1517E95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5F32-4977-438A-A564-C3E939CE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0529-7AAB-4879-A2A7-8C6C01D41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05E1-FEC4-4906-9011-F110B851656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FD7B-73C6-4636-8A85-3B516A68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5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DC1-9793-4773-AE70-CAB6B3DD87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8E47-7511-47EB-BEC8-464C8D6CF6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81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 Going with a Smartboar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9096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all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he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distance and mark on flo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will take turns in small groups connecting the three de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9132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day we have learned about the different cables and how they are used to set up our projectors with the Interactive Whiteboards and our mobile de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steps did we find to be most difficult and how can we remember to complete them to have our projector working proper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set up my projector and interactive whiteboar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set up our projectors and interactive whiteboards by looking at their connections and the ports they are associated wit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wer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provides power for our projecto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cable that will be used every time you use your proj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GB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referred to as a VGA c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wo large blue ports on either 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other cable that will be used all the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from the computer to the project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s the projector to project the image on your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ve no image being projected this is the first cable to chec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SB C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cable connects your computer to the Interactive whiteboar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whiteboard is a USB devic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gets its power from your compute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teboard Power C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power to the speakers, not the 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proj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c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the ports for the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8T16:29:05Z</dcterms:modified>
  <cp:revision>9</cp:revision>
  <dc:subject/>
  <dc:title>Get Going With iProject-Interactive Whiteboard-OOTB </dc:title>
</cp:coreProperties>
</file>